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ADA-1C33-4870-BC36-240EA6C0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842-F5C5-44D2-9DBE-A24FCF50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4A7-F6E7-4B40-AE9E-D13B131F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3E4-2331-4CE9-B2F5-8C9A7A26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75C-DAFC-400C-B808-ACFF7CA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D60-D223-408A-9D5D-9440621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F3F-DBA6-478C-BFFB-BD7A373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1D8-9836-4C9B-87CD-8C80ECD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569-43FA-4C8A-805E-ACBFDBAD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B5A-1605-4B36-8447-B8D384E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794-8363-4101-85D2-40D30CEB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C6C-3077-4DA7-9C69-BE109B50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54E2-479E-4141-B55B-A0AC394A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3 de may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uedes jugar deportes cuando tienes un resfri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esa _______ futbo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un partido mañan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e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 jug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no _______ perder el parti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la _______ el partido, su equipo no _______ gana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erder, 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ortunadamente, Teresa _______ un poco enferm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-write each sentence using “Nosotr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ultura y lectura: ¿Que le pasa a Adela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2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mprend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 (1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18:18Z</dcterms:created>
  <dc:creator>Helen Zumaeta</dc:creator>
  <dc:description/>
  <dc:language>en-US</dc:language>
  <cp:lastModifiedBy>Helen Zumaeta</cp:lastModifiedBy>
  <cp:lastPrinted>2013-05-13T12:34:08Z</cp:lastPrinted>
  <dcterms:modified xsi:type="dcterms:W3CDTF">2013-05-13T16:29:11Z</dcterms:modified>
  <cp:revision>9</cp:revision>
  <dc:subject/>
  <dc:title>Me llamo _________ Clase 7 im La fecha es el 26 de mayo del 2011</dc:title>
</cp:coreProperties>
</file>